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7998-7E64-48E8-9075-8B16DFA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742F-4BDF-4883-875F-F504CC4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9A6D-86CD-448E-A19E-AFEAC60E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2BEB-B78B-4B74-9A1A-16B435E0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287B-175F-46DB-A7D5-F15109CA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24C3-9C49-47FC-8479-B538A0B0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BD30-22EC-4C0F-AB40-57609760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B14-656D-4AF6-8BB5-7C2FE472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20FF-5FB3-4588-B8BA-DFB44A00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6BC9-A7CA-47A5-8C4F-318C3311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E795-93F1-49BD-AB7C-86DB5D8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0DBA-3C77-4505-A78D-CAAC1772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8E5A-80AC-403F-9509-DA7590B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9CF3-035F-4D01-B61C-C0F3545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5BC4-1A2B-4E43-BF89-46D85F7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CC1D-B473-448F-BB49-3254F664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5519-7B5E-4AB9-BA06-BC23F159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A3CF-65AE-4C18-B63C-C70AD56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DC5D-895D-4E6C-82E0-3331F93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36A5-A813-47D4-BC9E-24CD0CB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7515-7ADE-4B7F-8A78-4C8A6B1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9A76-D25B-4F5D-AFC2-A4E8A12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4243-F153-4D38-8E4D-EB8265F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4B5B-6969-4B43-B9CF-ACA24B6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CFA9-3AC7-4932-9A16-82A03686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54C7-FBA6-4262-9DAA-9BF83016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egumentary System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.K.A.: Sk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tic 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38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34000" y="457200"/>
            <a:ext cx="4410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Endings of Epider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Nerve End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in &amp; Temp. (epidermis &amp; der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ke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dis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tic L.T. (epider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issner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rpus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ynamic L.T. (der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inia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rpus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ep pressure &amp; vibration (deeper tissue- subcutane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038480" y="5867280"/>
            <a:ext cx="265320" cy="265320"/>
          </a:xfrm>
          <a:custGeom>
            <a:avLst/>
            <a:gdLst>
              <a:gd name="textAreaLeft" fmla="*/ 16920 w 265320"/>
              <a:gd name="textAreaRight" fmla="*/ 248400 w 26532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760" t="13590" r="0" b="3673"/>
          <a:stretch/>
        </p:blipFill>
        <p:spPr>
          <a:xfrm>
            <a:off x="4648320" y="2209680"/>
            <a:ext cx="44956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94280" y="493920"/>
            <a:ext cx="81554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m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2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illary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olar connectiv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in capillaries &amp;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papillae: extensions into epi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al 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ngerpr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cula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nse ir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iv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, attachment, &amp; allows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48400" y="3505320"/>
            <a:ext cx="3495600" cy="2333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4038480" cy="2162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9920" y="1143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1752480"/>
            <a:ext cx="53316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4640" y="501840"/>
            <a:ext cx="90547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rm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onents &amp;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ssory Org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ir, sweat &amp; sebaceous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ympha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ists in tissue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rve fi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receptors &amp; nerve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s blood flow &amp; gland secretion rat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6960" y="524160"/>
            <a:ext cx="90100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is: Wrinkles &amp; Stretch 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radiation &amp; over stretched skin (pregna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 elastin beyond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s &amp; stretch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in-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itamin A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n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. blood flow to incr. dermal repair &amp; decr. wrink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0680" y="497880"/>
            <a:ext cx="90626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bcutaneous Layer: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ypoderm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oose connective tissue w/ abundant adip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babies: more adipos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: fat located differently in male,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bilizes skin, store energy, ins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me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, steady i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tal organs &amp; limited # capil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7080" y="36720"/>
            <a:ext cx="90698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y Structure: Hair Foll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s found everywhere except palms, soles, lips, sides of fingers &amp; 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ze, shape, and color of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nclose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 Foll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illa: areolar tissue w/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- division (inn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- begin kerati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icle- fully keratinized (out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ector pili mus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mooth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 Root Plex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Foll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51856" b="0"/>
          <a:stretch/>
        </p:blipFill>
        <p:spPr>
          <a:xfrm>
            <a:off x="0" y="0"/>
            <a:ext cx="3962520" cy="635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089240" y="1981080"/>
            <a:ext cx="474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94280" y="493920"/>
            <a:ext cx="81554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Types &amp;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el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ine, “peach fuzz” (most of bod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ermi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eavy, colored (head, eyebr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termedi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-between (legs &amp; ar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d by melanocytes at papi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gment production slows w/ age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ay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8305920" y="6095880"/>
            <a:ext cx="264960" cy="26532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3794" y="10815"/>
                </a:moveTo>
                <a:lnTo>
                  <a:pt x="17806" y="3808"/>
                </a:lnTo>
                <a:lnTo>
                  <a:pt x="17806" y="1782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5920" y="25920"/>
            <a:ext cx="9092160" cy="4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crine: Sebaceous G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baceous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hair follicle: secre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um: prevents drying &amp; inhibits bacteri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mpoo: removes natural oil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ff, dry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baceous Foll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s directly to epi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, back, c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ne: (caused by hormone chan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blocked, secretions accumulat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amm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terial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ruminous G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rumen (earwax)to protect inner 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baceous Follicle &amp;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81080" y="1584360"/>
            <a:ext cx="5334120" cy="52736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305920" y="6095880"/>
            <a:ext cx="264960" cy="26532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3794" y="10815"/>
                </a:moveTo>
                <a:lnTo>
                  <a:pt x="17806" y="3808"/>
                </a:lnTo>
                <a:lnTo>
                  <a:pt x="17806" y="1782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90680" y="33120"/>
            <a:ext cx="816264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ocrine: Sweat Glands- 2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5486400" y="659304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7372080" y="5414040"/>
            <a:ext cx="176400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ocr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417280" y="5566680"/>
            <a:ext cx="158580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cr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35400" y="533520"/>
            <a:ext cx="400860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7924320" y="380952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400800" y="48002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6629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ocrine Sweat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 through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pits &amp; gr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 at puber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state &amp;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envmt for bacteri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ocrine Sweat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(palms/ so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 to skin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ing eff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ion: dilute chem, wash away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4640" y="501840"/>
            <a:ext cx="90547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 Local Control : Infla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= great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, keratiniz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junctions b/w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&amp; sweat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illary layer= bacterial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bacteria enters papillary layer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amm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 cells initiat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26534" b="0"/>
          <a:stretch/>
        </p:blipFill>
        <p:spPr>
          <a:xfrm>
            <a:off x="5653080" y="3276720"/>
            <a:ext cx="3490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7080" y="36720"/>
            <a:ext cx="90698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 Local Control: Re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t 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 &amp; fibrin (sca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lates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network for new cell mi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vision, Migration, &amp; Phagocyto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m germinativ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e &amp; Migrat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ranulation tiss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fibrin clot, fibroblasts, capillary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2795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4014720"/>
            <a:ext cx="39625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eneration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809880" cy="2954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943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car tis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lots of collagen, little bl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hair follicles, sweat &amp; sebaceous glands replaced w/ sc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trac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s &amp; epitheli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woun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ot diss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ing Integument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at G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l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ly skeletal &amp; arrector pi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erficial: heat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eper: maintain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Skin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2438280" cy="1628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238880" y="6094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143760" y="3591000"/>
            <a:ext cx="3000240" cy="3267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al cell carcinoma: Most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inativum (basale)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: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tasi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mous Cell Carcinoma: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: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tasi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oma: most dangerous &amp;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ous melan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: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Metastasi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A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ymetry, Border, Color,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Burns &amp; Skin Gra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, sunbur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, blisters, pain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s in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to germinativum &amp; dermi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, moist, blisters, blanch with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ry structures un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if &gt;15% body burn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weeks to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to subcutaneou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te, brown, black, or whit,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painfu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heal if extensive through bod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n graft may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990720"/>
            <a:ext cx="75960" cy="3429000"/>
          </a:xfrm>
          <a:custGeom>
            <a:avLst/>
            <a:gdLst>
              <a:gd name="textAreaLeft" fmla="*/ 48600 w 75960"/>
              <a:gd name="textAreaRight" fmla="*/ 76320 w 759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188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0"/>
            <a:ext cx="75960" cy="2286000"/>
          </a:xfrm>
          <a:custGeom>
            <a:avLst/>
            <a:gdLst>
              <a:gd name="textAreaLeft" fmla="*/ 48600 w 75960"/>
              <a:gd name="textAreaRight" fmla="*/ 76320 w 75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188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gumentary Overall Func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lying tissues &amp;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lts, water, &amp; organic wastes (excretory or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normal bod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tamin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n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ouch, pressure, pain, &amp; te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11827" t="5259" r="10168" b="5259"/>
          <a:stretch/>
        </p:blipFill>
        <p:spPr>
          <a:xfrm>
            <a:off x="0" y="0"/>
            <a:ext cx="6172200" cy="4465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ns&amp; Trea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0280" y="609480"/>
            <a:ext cx="375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 of Bur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of 9’s (p. 20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4640" y="281952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in G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-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-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 &amp; 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F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3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7238880" y="1905120"/>
            <a:ext cx="265320" cy="264960"/>
          </a:xfrm>
          <a:custGeom>
            <a:avLst/>
            <a:gdLst>
              <a:gd name="textAreaLeft" fmla="*/ 16920 w 265320"/>
              <a:gd name="textAreaRight" fmla="*/ 248400 w 2653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4266720"/>
            <a:ext cx="5867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ther Conc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&amp; electrolyte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f 9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3048120" y="624852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Decubitus Ul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ubitus Ulcer= Pressure S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: over bony areas (i.e. sacrum, h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off blood supp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 nutrients &amp;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ost affec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 r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ensation: diabetics (feet &amp; hands), S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chai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redd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: b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: all 3 skin layers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: all 3 layers of skin &amp; underlying tissues (muscle/ tendons/ b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: positioning every 2 hours, weight shifts in wheelchair, cushioning/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0058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ubitus 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906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772160" y="3289320"/>
            <a:ext cx="43718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umentary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aneous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utaneou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304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ss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Foll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c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 E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15880"/>
            <a:ext cx="91440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piderm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ayers:Stratified Squam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Germinativ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tratum Ba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Spino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ells still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Granulo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ra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tei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resistant, durable (poor envmt for bacteria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nails, hooves, horns, qu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Lucid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alms &amp; sol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Corn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uperfi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tened, dead, keratiniz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914400"/>
            <a:ext cx="1828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d after 2 w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16002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82296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dermal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6343" t="0" r="0" b="8429"/>
          <a:stretch/>
        </p:blipFill>
        <p:spPr>
          <a:xfrm>
            <a:off x="4419720" y="4375080"/>
            <a:ext cx="4724280" cy="248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07440" y="4118760"/>
            <a:ext cx="114984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000560" y="3966480"/>
            <a:ext cx="213588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m &amp; So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2939" r="1681" b="1474"/>
          <a:stretch/>
        </p:blipFill>
        <p:spPr>
          <a:xfrm>
            <a:off x="0" y="0"/>
            <a:ext cx="472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min D 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um spinosum &amp; germinati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light + steroid precurso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tamin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 D 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bones to absorb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etts: bo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inner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ion/ Water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ive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rm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 Color: 2 Determi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oo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ddish t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, infl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ya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stained decr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extreme cold or cardiopulm. d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in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(carr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nocy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erminativum &amp; dermis)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nocyte stimulating horm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SH)- pituitary gland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ineal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bi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’t produce mela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31:16Z</dcterms:created>
  <dc:creator>Melissa Hecht</dc:creator>
  <dc:description/>
  <dc:language>en-US</dc:language>
  <cp:lastModifiedBy>jayoig</cp:lastModifiedBy>
  <dcterms:modified xsi:type="dcterms:W3CDTF">2009-10-06T18:44:46Z</dcterms:modified>
  <cp:revision>55</cp:revision>
  <dc:subject/>
  <dc:title>Integumentary System A.K.A.: Skin</dc:title>
</cp:coreProperties>
</file>